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520" y="-360"/>
            <a:ext cx="2884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26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520" y="9426600"/>
            <a:ext cx="2884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4D85-B0FC-47EF-9A0A-49F9CDBA9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9240" y="74448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59B-C703-4503-9959-421D262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C45-9694-4AED-930C-F61A1F00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456-1C7A-498E-A87D-DCCFDF3D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C33-6C53-4504-BD70-DC910518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105-FE44-4025-8833-1AA4738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622-1A18-4E45-B127-B318813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14A-E6E2-4645-8E57-ECFBC43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1A5-9A21-4FBC-9E7B-C7DAEF6D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777-D778-4504-83BD-0098BE2A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2E0-D0B1-4663-93B8-65201DD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984-9D30-4590-8D6E-72C2DAE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A9C-28F4-4374-B45E-22A761A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B82AD-9229-4F36-821F-CC674C7C09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7848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. 3º Constituem diretrizes gerais de ação para implementação da Política Nacional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- a gestão sistemática dos recursos hídricos, sem dissociação dos aspectos de quantidade e qual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 - a adequação da gestão de recursos hídricos às diversidades físicas, bióticas, demográficas, econômicas, sociais e culturais das diversas regiões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II - a integração da gestão de recursos hídricos com a gestão ambi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V - a articulação do planejamento de recursos hídricos com o dos setores usuários e com os planejamentos regional, estadual e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 - a articulação da gestão de recursos hídricos com a do uso do so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 - a integração da gestão das bacias hidrográficas com a dos sistemas estuarinos e zonas cos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520" y="404640"/>
            <a:ext cx="594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LEI Nº 9.433, DE 8 DE JANEIRO D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3240" y="3956040"/>
            <a:ext cx="7238880" cy="19810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rupo de Integração do Gerenciamento Cost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I - GE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60440" y="4032360"/>
            <a:ext cx="83808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tro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1560" y="5708520"/>
            <a:ext cx="761760" cy="38124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251320"/>
            <a:ext cx="60948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0360" y="41846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8240" y="39560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3760" y="471816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89840" y="4641840"/>
            <a:ext cx="685800" cy="5335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2920" y="3727440"/>
            <a:ext cx="76212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27320" y="37274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41720" y="372744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80160" y="3803760"/>
            <a:ext cx="68580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4840" y="3803760"/>
            <a:ext cx="68580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9560" y="52513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65960" y="5479920"/>
            <a:ext cx="761760" cy="45720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20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55562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B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7160" y="5784840"/>
            <a:ext cx="76176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T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46440" y="5784840"/>
            <a:ext cx="762120" cy="38088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960" y="4336920"/>
            <a:ext cx="685800" cy="304920"/>
          </a:xfrm>
          <a:prstGeom prst="octagon">
            <a:avLst>
              <a:gd name="adj" fmla="val 2314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1212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riado no âmbito do PNGCII para promover a articulação das ações federais incidentes na Zona Costeira, a partir da aprovação de planos de ação fed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960" y="297972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0628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Articulação política e institucional na Esfera Federal para a condução do PN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14940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Institui a Câmara Técnica de Integração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estão das Bacias Hidrográficas e dos Sist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ELHO NACIONAL DE RECURSOS HÍDRICOS-CNR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o uso das competências que lhe são conferidas pelas Leis nos 9.433, de 8 de janeiro de 1997, e 9.984, de 17 de julho de 2000, e tendo em vista o disposto nos arts. 22 e 23 do seu Regimento Interno;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que o art. 3o, inciso VI, da Lei no 9.433, de 1997, prevê a integração da gestão das bacias hidrográficas com a dos sistemas estuarinos e zonas costeiras como uma das diretrizes gerais de ação para a implementação da Política Nacional de Recursos Hídric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o constante da Lei no 7.661, de 16 de maio de 1988, que instituiu o Plano Nacional de Gerenciamento Costei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ando a necessidade de otimizar esforços para maior integração das ações entre os colegiados costeiros e os comitês de bacia hidrográfica, resol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1o Instituir a Câmara Técnica de Integração da Gestão das Bacias Hidrográficas e dos Sistemas Estuarinos e Zona Costei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4200" y="220680"/>
            <a:ext cx="81741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OLUÇÃO No 51, DE 18 DE JULHO DE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2o São competências da Câmara Téc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- analisar e propor mecanismos de integração das políticas de gestão de recursos hídricos e de gerenciamento costeiro, considerando também as demais políticas públicas inciden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 - propor mecanismos de integração dos instrumentos das políticas e indicadores comuns para o gerenciament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II - analisar e propor ações visando a minimização ou solução de conflitos de uso de recursos hídricos na zona costeira e sistemas estuarin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V - propor mecanismos de intercâmbio técnico e institucional entre as instâncias responsáveis pelas respectivas polític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 - analisar, estudar e emitir pareceres sobre assunto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 - exercer competências do CNRH que lhe forem especialmente delegadas pelo Ple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3o A composição da Câmara Técnica e o mandato dos seus membros serão definidos conforme estabelecido no Regimento Interno do CNR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4o A Câmara Técnica terá prazo de dois meses, a partir da publicação desta Resoluçã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ra sua instalação, cabendo à Secretaria -Executiva cooperar com sua efetiv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rt. 5o Esta Resolução entra em vigor na data de sua publ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0720" y="1324080"/>
            <a:ext cx="77389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São instrumentos de gestão dos Recursos Hídricos, conforme art. 5o. da Lei n. 9433, de 08 de janeiro de 199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s Planos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enquadramento dos corpos de água em classes, segundo os usos preponderantes da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outorga dos direitos de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obrança pelo uso de recursos híd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 Sistema de Informações sobr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24000" y="158760"/>
            <a:ext cx="669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NSTRUMENTOS DE GESTÃ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8720" y="5516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3, de 25 de setembr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a implementação do Sistema Nacional de Informações sobr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700280"/>
            <a:ext cx="792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2, de 19 de julho 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procedimentos para o enquadramento de corpos de água em classes segundo os usos preponder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92428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6, de 08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outorga de direito de uso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0560" y="404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17, de 29 de maio d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diretrizes para elaboração dos Planos de Recursos Hídricos de Bacia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22100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solução nº 48, de 21 de março de 200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stabelece critérios gerais para a cobrança pel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9280" y="194076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S RESOLUÇÕES CNRH Nº. 12, 13, 16, 17 E 48 E PROPOR EVENTUAIS AJUSTES NELAS VISANDO A INTEGRAÇÃO DOS INSTRUMENTOS DAS POLÍTICAS E INDICADORES COMUNS PARA O GERENCIAMENTO DE RECURSOS HÍDRICOS NA ZONA COSTEIRA E SISTEMAS ESTUARI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55548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82800" y="2101680"/>
            <a:ext cx="71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A MINUTA DO PL 1616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1800" y="339840"/>
            <a:ext cx="261612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ori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0560" y="1484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DETALHAR O PROGRAMA SOBRE ZONA COSTEIRA QUE CONSTA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2640" y="3427560"/>
            <a:ext cx="75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omponente de Programas Regionais de Recursos Hídricos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5640" y="4763160"/>
            <a:ext cx="70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 ao Gerenciamento Costeir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997360"/>
            <a:ext cx="8064360" cy="3311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0" y="404640"/>
            <a:ext cx="261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Verdana"/>
              </a:rPr>
              <a:t>PROPO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280" y="1916280"/>
            <a:ext cx="80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EXAMINAR NA CT-COST O DECRETO Nº 5.300, DE 07 DE DEZEMBRO DE 2004 QUE REGULAMENTOU A LEI N° 7661, DE 16 DE MAIO DE 1988 E PROPOR EVENTUAIS AJUSTES NELE VISANDO A INTEGRAÇÃO DAS POLÍTICAS DE GESTÃO DE RECURSOS HÍDRICOS E DE GERENCIAMENTO COS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aquim</dc:creator>
  <dc:description/>
  <dc:language>en-US</dc:language>
  <cp:lastModifiedBy>joaquim</cp:lastModifiedBy>
  <cp:revision>0</cp:revision>
  <dc:subject/>
  <dc:title>Slide 1</dc:title>
</cp:coreProperties>
</file>